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F568-2BD7-4068-9621-413FD0AB6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63BD-BCF0-4710-AF4E-D2DA97000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D94C-58E2-4804-B75E-4150B23A4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661B-7528-40C0-ABA8-66A11ACA4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107E-C0E0-4D18-8771-5420F4F1C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809D-7A39-4B0E-9901-6E40B6767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1ED3-6808-4C11-A22D-537BEB5F6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732A-DE44-42C6-8586-FEFF6D062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FD82-3B2C-4017-B2EF-E21C9B1A2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CCAA-1489-4748-A4E7-A16155A92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C58A-D32E-4495-B42B-5B3F0841C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057B-FE90-4B02-8B61-E14DD5C2F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B2F51-D22B-4F6A-8033-08C62B0311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zdorobr.org/" TargetMode="External"/><Relationship Id="rId2" Type="http://schemas.openxmlformats.org/officeDocument/2006/relationships/hyperlink" Target="mailto:zdorovie.2014@yandex.ru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ro.perm.ru/" TargetMode="External"/><Relationship Id="rId2" Type="http://schemas.openxmlformats.org/officeDocument/2006/relationships/hyperlink" Target="http://iro.perm.ru/" TargetMode="External"/><Relationship Id="rId3" Type="http://schemas.openxmlformats.org/officeDocument/2006/relationships/hyperlink" Target="http://iro.perm.ru/" TargetMode="External"/><Relationship Id="rId4" Type="http://schemas.openxmlformats.org/officeDocument/2006/relationships/hyperlink" Target="http://www.iro.perm.ru/uchitel_zdorovia_rossii_2015.html" TargetMode="External"/><Relationship Id="rId5" Type="http://schemas.openxmlformats.org/officeDocument/2006/relationships/hyperlink" Target="http://iro.perm.ru/catalog.html?cid=9" TargetMode="External"/><Relationship Id="rId6" Type="http://schemas.openxmlformats.org/officeDocument/2006/relationships/hyperlink" Target="http://iro.perm.ru/catalog.html?cid=9" TargetMode="External"/><Relationship Id="rId7" Type="http://schemas.openxmlformats.org/officeDocument/2006/relationships/hyperlink" Target="http://iro.perm.ru/catalog.html?cid=9" TargetMode="External"/><Relationship Id="rId8" Type="http://schemas.openxmlformats.org/officeDocument/2006/relationships/hyperlink" Target="http://iro.perm.ru/catalog.html?cid=9" TargetMode="External"/><Relationship Id="rId9" Type="http://schemas.openxmlformats.org/officeDocument/2006/relationships/hyperlink" Target="mailto:ozdip@list.ru" TargetMode="External"/><Relationship Id="rId10" Type="http://schemas.openxmlformats.org/officeDocument/2006/relationships/image" Target="../media/image2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ozdip@list.ru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60720" y="620640"/>
            <a:ext cx="6875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Краевой этап </a:t>
            </a:r>
            <a:br>
              <a:rPr sz="3600"/>
            </a:b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X </a:t>
            </a:r>
            <a:r>
              <a:rPr b="1" lang="ru-RU" sz="3600" spc="-1" strike="noStrike">
                <a:solidFill>
                  <a:srgbClr val="339933"/>
                </a:solidFill>
                <a:latin typeface="Calibri"/>
              </a:rPr>
              <a:t>Всероссийского конкурса </a:t>
            </a:r>
            <a:br>
              <a:rPr sz="3600"/>
            </a:br>
            <a:r>
              <a:rPr b="1" lang="ru-RU" sz="3600" spc="-1" strike="noStrike">
                <a:solidFill>
                  <a:srgbClr val="339933"/>
                </a:solidFill>
                <a:latin typeface="Calibri"/>
              </a:rPr>
              <a:t>«Учитель здоровья России - 2019»: условия участия, требования, критерии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47560" y="4457520"/>
            <a:ext cx="822960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2400" spc="-1" strike="noStrike">
                <a:solidFill>
                  <a:srgbClr val="339933"/>
                </a:solidFill>
                <a:latin typeface="Calibri"/>
              </a:rPr>
              <a:t>Лядова Наталья Владимировна</a:t>
            </a:r>
            <a:r>
              <a:rPr b="1" lang="ru-RU" sz="2400" spc="-1" strike="noStrike">
                <a:solidFill>
                  <a:srgbClr val="339933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33"/>
                </a:solidFill>
                <a:latin typeface="Calibri"/>
              </a:rPr>
              <a:t>ответственная за проведение краевого конкурс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9933"/>
                </a:solidFill>
                <a:latin typeface="Calibri"/>
              </a:rPr>
              <a:t>ведущий научный сотрудник отдела сопровождения ФГОС ИРО ПК, кандидат медицинских наук, доцен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6480" y="285840"/>
            <a:ext cx="215568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33"/>
                </a:solidFill>
                <a:latin typeface="Calibri"/>
              </a:rPr>
              <a:t>Поощрение победителя и лауреатов Конкур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0" y="1073160"/>
            <a:ext cx="9144000" cy="56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бедитель, призеры и лауреаты Конкурса поощряются денежными вознаграждения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се участники 1-го заочного тура Конкурса награждаются дипломам участников, победитель, призеры и лауреаты (участники 2 тура) – диплом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бедитель Конкурса будет направлен для очного участия во всероссийском (финальном) этапе X Всероссийского конкурса «Учитель здоровья России – 2019», который будет проводиться 27-29 ноября 2019 года в городе Челябинс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ем документов победителя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1 ноября. Сайт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zdorobr.org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дрес Оргкомитета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zdorovie.2014@yandex.r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3"/>
          <a:stretch/>
        </p:blipFill>
        <p:spPr>
          <a:xfrm>
            <a:off x="8028000" y="0"/>
            <a:ext cx="12445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спехов участникам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3276720" y="2781360"/>
            <a:ext cx="215568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Поиск информации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о конкурсе на сайте ИРО П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0" y="1483920"/>
            <a:ext cx="90360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АУ ДПО «Институт развития образования Пермского края»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iro.perm.ru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Мероприятия/«Учитель здоровья России»/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iro.perm.ru/uchitel_zdorovia_rossii_2015.html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дел сопровождения ФГОС ИРО ПК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://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iro.perm.ru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/catalog.html?cid=9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л. 8(342)212 21 9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ядов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Наталья Владимировна,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ozdip@list.ru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8 922 64 79 30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5" descr="logo2"/>
          <p:cNvPicPr/>
          <p:nvPr/>
        </p:nvPicPr>
        <p:blipFill>
          <a:blip r:embed="rId10"/>
          <a:stretch/>
        </p:blipFill>
        <p:spPr>
          <a:xfrm>
            <a:off x="539640" y="333360"/>
            <a:ext cx="1828800" cy="1125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11"/>
          <a:stretch/>
        </p:blipFill>
        <p:spPr>
          <a:xfrm>
            <a:off x="7667640" y="189000"/>
            <a:ext cx="12445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К участию в Конкурсе</a:t>
            </a:r>
            <a:br>
              <a:rPr sz="3600"/>
            </a:b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приглашаютс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79280" y="1600200"/>
            <a:ext cx="89647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чителя и педагоги общеобразовательных организаций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едагоги дополнительного образования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еподаватели среднего профессионального образования Пермского кра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7445520" y="0"/>
            <a:ext cx="13762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Цели Конкурс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явление лучших учителей, осуществляющих обучение на уроках, занятиях на основе использования современных здоровьесберегающих образовательных технологий, и определение кандидата для участия в финальном этапе X Всероссийского конкурса «Учитель здоровья России – 2019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Задачи Конкурс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ктуализация проблемы формирования культуры здоровья в системе образова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явление инновационных подходов педагогов к формированию культуры здорового и безопасного образа жизни у обучающихся, воспитанников, использования педагогами здоровьесберегающих образовательных технологий, методик в процессе обучения и воспит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Туры конкурса и конкурсные мероприят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1-й – заочный ту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онкурсное мероприятие: «Технологическая карта или Конспект урока или занятия»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2-й – очный тур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Конкурсные мероприятия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Фрагмент урока или внеклассного занятия с деть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Самоанализ мероприят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Творческая презентация педагогического опыта «Я – учитель здоровья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9933"/>
                </a:solidFill>
                <a:latin typeface="Calibri"/>
              </a:rPr>
              <a:t>Сроки провед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уры Конкурс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1-й – заочный – с 20 мая по 9 сентября 2019 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Место проведения - ГАУ ДПО «ИРО ПК»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2) 2-й – очный – 25-26 сентября 2019 г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Место его проведения будет размещено на сайте ГАУ ДПО «ИРО ПК» http://iro.perm.ru/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фициальной эмблемо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онкурса </a:t>
            </a: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является развернута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книга с дубовым листо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Использование официальной эмблемы Конкурса обязательно на краевом этапе X Всероссийского конкур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7445520" y="0"/>
            <a:ext cx="13762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5840" y="274680"/>
            <a:ext cx="85806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33"/>
                </a:solidFill>
                <a:latin typeface="Calibri"/>
              </a:rPr>
              <a:t>Условия участия. </a:t>
            </a:r>
            <a:br>
              <a:rPr sz="3200"/>
            </a:br>
            <a:r>
              <a:rPr b="1" lang="ru-RU" sz="3200" spc="-1" strike="noStrike">
                <a:solidFill>
                  <a:srgbClr val="339933"/>
                </a:solidFill>
                <a:latin typeface="Calibri"/>
              </a:rPr>
              <a:t>Перечень направляемых материал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06200" y="1248840"/>
            <a:ext cx="8885520" cy="53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явление участника Конкурса по образцу (Приложение 1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явка на урок или  внеклассное занятие (Приложение 2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едставление заявителя (скан) о Конкурсанте (официальное письмо органа управления образованием муниципального района, городского округа с подписью начальника и печатью) (Приложение 3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нформационная карта участника Конкурс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в формате Word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и скан)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(Приложение 4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ехнологическая карта (план-конспект урока) или внеклассного занятия в электронном виде (Приложение 5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в формате Word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(Приложение 5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цветная фотография участника (портрет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частники в срок до 9 сентября 2019 года включительно направляют комплект конкурсных документов в Оргкомитет Лядовой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Наталье Владимировне по электронной почте на адрес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ozdip@list.ru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2"/>
          <a:stretch/>
        </p:blipFill>
        <p:spPr>
          <a:xfrm>
            <a:off x="7967520" y="0"/>
            <a:ext cx="117648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Критерии оценки конкурсных материалов </a:t>
            </a:r>
            <a:br>
              <a:rPr sz="2800"/>
            </a:b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заочного тура</a:t>
            </a: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заочном туре жюри оценивают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хнологическую карту/Конспект урока или занят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79280" y="1746360"/>
          <a:ext cx="8785440" cy="5111640"/>
        </p:xfrm>
        <a:graphic>
          <a:graphicData uri="http://schemas.openxmlformats.org/drawingml/2006/table">
            <a:tbl>
              <a:tblPr/>
              <a:tblGrid>
                <a:gridCol w="360360"/>
                <a:gridCol w="6337440"/>
                <a:gridCol w="208764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и оцен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сим. количество баллов (1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дактическое оформление технологической карты/плана-конспек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ние соответствует теме, включает воспитательный компонент по формированию культуры ЗОЖ, здоровьесберегающие технолог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игинальность используемых приемов, форм достижения и оценивания результатов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ользованная литерату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ист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8034480" y="189000"/>
            <a:ext cx="11095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33"/>
                </a:solidFill>
                <a:latin typeface="Calibri"/>
              </a:rPr>
              <a:t>Очный ту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6840" y="1074600"/>
            <a:ext cx="853452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 2-й очный тур выходят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евять участников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набравших в 1-м туре наибольшее количество баллов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339933"/>
                </a:solidFill>
                <a:latin typeface="Calibri"/>
              </a:rPr>
              <a:t>Конкурсные мероприятия очного тур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рагмент урока или внеклассного занятия с детьми – регламент 25 мину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моанализ мероприятия – регламент 5 мин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ворческая презентация педагогического опыта участника Конкурса «Я – учитель здоровья» – регламент 7 ми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7445520" y="0"/>
            <a:ext cx="13762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23T09:47:00Z</dcterms:created>
  <dc:creator>Ljadova-NV</dc:creator>
  <dc:description/>
  <dc:language>en-US</dc:language>
  <cp:lastModifiedBy>Ljadova-NV</cp:lastModifiedBy>
  <dcterms:modified xsi:type="dcterms:W3CDTF">2019-05-14T09:24:35Z</dcterms:modified>
  <cp:revision>12</cp:revision>
  <dc:subject/>
  <dc:title>Краевой этап  II Всероссийского конкурса  «Школа – территория здоровья - 2018»: условия участия, требования, критерии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0.2.0.7635</vt:lpwstr>
  </property>
  <property fmtid="{D5CDD505-2E9C-101B-9397-08002B2CF9AE}" pid="3" name="Version">
    <vt:r8>4</vt:r8>
  </property>
</Properties>
</file>